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78560" y="4550040"/>
            <a:ext cx="36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n and N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927000" y="1803240"/>
            <a:ext cx="4660920" cy="68961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7578000" y="3021120"/>
            <a:ext cx="3627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 Gold Ru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 Californ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84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556080" y="1066680"/>
            <a:ext cx="5245200" cy="69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987720" y="2451240"/>
            <a:ext cx="50292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-419040" y="-647640"/>
            <a:ext cx="1384308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31640" y="1645200"/>
            <a:ext cx="1168560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Old Timey Family Portraits." </a:t>
            </a:r>
            <a:r>
              <a:rPr b="0" lang="en-US" sz="16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Where I'm Calling fr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b. 04 Mar. 2010. &lt;http://amyl.onsugar.com/Old-Timey-Family-Portraits-2736238&gt;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444600" y="2711880"/>
            <a:ext cx="1235052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alifornia State Water Project-History." </a:t>
            </a:r>
            <a:r>
              <a:rPr b="0" lang="en-US" sz="16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California Department of Water Resourc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b. 04 Mar. 2010. &lt;http://www.water.ca.gov/swp/history.cfm&gt;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27080" y="3759120"/>
            <a:ext cx="130046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dex of /service/besales01/Photoshop F Drive/ART Currier &amp; Ives." </a:t>
            </a:r>
            <a:r>
              <a:rPr b="0" lang="en-US" sz="16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American Memory from the Library of Congress - Home Pag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b. 04 Mar. 2010. &lt;http://memory.loc.gov/service/besales01/Photoshop%20F%20Drive/ART%20Currier%20&amp;%20Ives/&gt;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825120" y="4959360"/>
            <a:ext cx="104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October 2008." </a:t>
            </a:r>
            <a:r>
              <a:rPr b="0" lang="en-US" sz="16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Free Printable Map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b. 04 Mar. 2010. &lt;http://printable-maps.blogspot.com/2008_10_01_archive.html&gt;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353480" y="448200"/>
            <a:ext cx="3015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orks Ci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